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AAE-7DE6-46D0-8070-454C9E14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913-71A8-4858-BA96-6A219398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52C-7064-465D-BDAC-39DCDD9A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0F1-C64F-4EA8-948B-7DB4E38B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37D2-90BA-4E46-AB8C-BC29BDBC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E565-5D7F-4536-A0A3-E04DB131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219A-7BC1-4330-A06A-284C283C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FF9E-B016-4737-9AFE-6434CEB1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50F7-64B7-4610-A1D0-BD319387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BAD6-F7D4-42F0-9D41-2F957BB3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A48C-C655-40C4-BA20-18AB8BE0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60F-5A48-4F32-8448-B290AA1D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9DDB-0D4B-49E6-B06F-BB642673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242D-32BE-4858-B088-60AB3A08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0472-B196-4AF9-8D2B-301BF137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061D-0D14-4C4F-BBB5-27F4A2F2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455E-2478-493B-BA89-38536EF6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205-360F-4D32-9766-CE8C0FEA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5F6-6294-4EE1-A537-F764887D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8F4-991F-4359-A537-6AD88BAB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9F14-E8A0-44DC-8A73-980AF63F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3DB-A4A3-4583-BC36-B5765B28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DB5-8F21-4983-A8A4-B0512216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A09-4A5C-45A6-8158-5457D972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C65B-9188-4AF6-9C4D-B4AFF2175C2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C457-05FD-4E9B-92A9-D972D1C2513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Remnant Shall Ret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arter 8, Lesson 2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ges 14-21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Period of Cap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Stories From Dani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in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oup of captives – Dan.1:3-7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s not to be defiled – 1:8-2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and Nebuchadnezzar’s Dream – ch. 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buchadnezzar’s D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423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Major World Empir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bylonia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es &amp; Persia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k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 “the kingdom of God”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1046160" cy="3048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562720" y="1752480"/>
            <a:ext cx="332100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eriod of Cap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576440"/>
            <a:ext cx="8077320" cy="5246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62320" y="4191120"/>
            <a:ext cx="5331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eriod of Cap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1612800"/>
            <a:ext cx="8077320" cy="5245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952880" y="6324480"/>
            <a:ext cx="45720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52880" y="42667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410080" y="42667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eriod of Cap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40 BC – Josiah begins his reign at 8 yrs 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 Kings 22:1;  2 Chron. 34:1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26 –Jeremiah begins prophetic work (Jer.1: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25 –Babylon gains independence from Assyri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21 – Josiah’s 18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year – Daniel is bor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nses land of idolatr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airs the templ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 of the law foun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12 – Nineveh fall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eriod of Cap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9 BC – Egyptians &amp; Assyrians join forces against Babyl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Josia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slain – 2 Kgs.23:29-30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2 Chron.35:20-27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allum (Jehoahaz) is made k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remiah laments death of Josia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 Chron.35:25; Jer.22:10-1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3 Months, Necho deposed Shallum and took him to Egyp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97180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eriod of Cap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siah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allum (Jehoahaz) – 3 month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akim (Jehoiakim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ced on the throne by Necho of Egyp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 Kings 23:34-37; 2 Chron.36:4-5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9 BC – Jeremiah laments Jehoiakim’s coming death – Jer.22:18-1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hoiakim becomes subject to Nebuchadnezzar of Babylon (2 Kgs.24:1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d’s Prophets are hated – Jer.2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1563840"/>
            <a:ext cx="8153280" cy="5294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pansion of Babylonian Emp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Period of Cap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5 BC – Fourth year of Jehoiaki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bylonians defeated Egyptians at Carchemis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emiah warned Judeans of a 70-year captivity  - Jer.25:1-14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uch read Jeremiah’s scroll to Jehoiaki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hoiakim cut up the scroll – Jer.36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Period of Cap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5 BC – Fourth year of Jehoiaki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bylonians invaded Jerusalem and took what they wanted including Temple item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, Shadrack, Meshach, and Abednego were among the first wave of captives – Dan.1:1-7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were trained in courtly duti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ave occasion for Daniel to interpret Nebuchadnezzar’s dream – Dan. 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20:34:43Z</dcterms:created>
  <dc:creator>Terry W. Benton</dc:creator>
  <dc:description/>
  <dc:language>en-US</dc:language>
  <cp:lastModifiedBy>Frank D Vines</cp:lastModifiedBy>
  <dcterms:modified xsi:type="dcterms:W3CDTF">2007-02-01T15:54:13Z</dcterms:modified>
  <cp:revision>4</cp:revision>
  <dc:subject/>
  <dc:title>A Remnant Shall Return</dc:title>
</cp:coreProperties>
</file>